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362-AA65-4D60-8095-34A55105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0DC-381D-4C0D-B8E9-4EE132F1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850-34E5-424B-8376-F5D661EE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5EC-11CC-4A1D-924D-23BA550B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75C2E-FFCF-417B-87E8-4E70E775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2184C-CAEF-46D9-B712-802FDD12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F9C95-3CEF-4296-8752-AD23B4F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E1506-3992-4292-B986-8272D07E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71860-82FF-4BA5-978D-D0C94BF7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D6664-41F8-4329-8F0F-B8BE81B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13837-B39D-45A2-9B78-7823D8F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F2E-086A-4472-8CF3-78D9BA09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76392-34AC-417F-AAAD-CC0C2107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E9E9F-B842-43A0-88D3-6935AC9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7454F-18AC-49D2-8108-FB1F08B3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EBCA9-2CEA-476A-BC93-8B6E7BCA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FA25-81BF-4162-8D14-9C98F7EE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75D-D521-4DF8-8386-14CC952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423-AF5B-41D4-8135-95767E5D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7D2-6227-4B7F-BCA1-FE20E237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D77-5E08-4BE1-8EEC-69C79435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940-3EBD-48FA-A79D-AAC3AAAF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380-3573-4D95-9A10-EAF201E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511-E955-4B42-82B7-F52029C6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9749-C365-4D7B-8010-737EE9706F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2C24-2999-4194-838F-53D804CCF6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87640" y="2133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e il desti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9323000">
            <a:off x="3339720" y="1028520"/>
            <a:ext cx="144360" cy="1081080"/>
          </a:xfrm>
          <a:prstGeom prst="upArrow">
            <a:avLst>
              <a:gd name="adj1" fmla="val 50000"/>
              <a:gd name="adj2" fmla="val 187219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275800">
            <a:off x="4938480" y="1028520"/>
            <a:ext cx="142920" cy="1081080"/>
          </a:xfrm>
          <a:prstGeom prst="upArrow">
            <a:avLst>
              <a:gd name="adj1" fmla="val 50000"/>
              <a:gd name="adj2" fmla="val 18910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83664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e la relig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ollin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765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a concezione classic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Virgil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3840" y="0"/>
            <a:ext cx="707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g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forma di superamento dei limiti um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4206200">
            <a:off x="3097080" y="2311200"/>
            <a:ext cx="118800" cy="1344600"/>
          </a:xfrm>
          <a:prstGeom prst="upArrow">
            <a:avLst>
              <a:gd name="adj1" fmla="val 50000"/>
              <a:gd name="adj2" fmla="val 282955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3040" y="19162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bb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1989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zione mediev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920" y="32130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e Dantes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3680" y="422100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eud e l’interpretazione dei sog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7092720" y="3716280"/>
            <a:ext cx="142920" cy="504720"/>
          </a:xfrm>
          <a:prstGeom prst="up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581360"/>
            <a:ext cx="69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a perdita della capacità di sognare con il progresso scientific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a 2° rivoluzione industri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Mont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5761440" y="1735920"/>
            <a:ext cx="142920" cy="1081080"/>
          </a:xfrm>
          <a:prstGeom prst="upArrow">
            <a:avLst>
              <a:gd name="adj1" fmla="val 50000"/>
              <a:gd name="adj2" fmla="val 18910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304360" y="1735560"/>
            <a:ext cx="142920" cy="1081080"/>
          </a:xfrm>
          <a:prstGeom prst="upArrow">
            <a:avLst>
              <a:gd name="adj1" fmla="val 50000"/>
              <a:gd name="adj2" fmla="val 18910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7429800">
            <a:off x="5168160" y="2327760"/>
            <a:ext cx="117360" cy="1309680"/>
          </a:xfrm>
          <a:prstGeom prst="upArrow">
            <a:avLst>
              <a:gd name="adj1" fmla="val 50000"/>
              <a:gd name="adj2" fmla="val 278988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1200" y="2997360"/>
            <a:ext cx="20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ltura popo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213372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49228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2400" y="63961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chedi Rosario 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8760" y="6585120"/>
            <a:ext cx="16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08:58:27Z</dcterms:created>
  <dc:creator>giustina</dc:creator>
  <dc:description/>
  <dc:language>en-US</dc:language>
  <cp:lastModifiedBy>giustina</cp:lastModifiedBy>
  <dcterms:modified xsi:type="dcterms:W3CDTF">2008-07-05T10:22:54Z</dcterms:modified>
  <cp:revision>9</cp:revision>
  <dc:subject/>
  <dc:title>      Il Sogno:forma di superamento dei limiti umani</dc:title>
</cp:coreProperties>
</file>